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F97-9579-4B27-A8EE-A12AAD66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63D-7C0D-424B-B027-C6D6E7F6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017-66FE-4D18-ADE4-9CB8C368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9BF-63A0-4D30-8E48-FF288804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2A74D-BB16-4A9D-B214-3FFB0D9E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38165-325A-4AEC-BC68-A729BD92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5E81E-2DAF-49B2-81B3-3D0ED22D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D3167-12CB-4E37-B178-5909CCA2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4E0D2-2651-4AEF-B836-BAEA8D24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D8721-D85E-4D67-A4F5-7A36959A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9A190-1BAD-4FDA-A7BC-40AA1919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FB6-3203-437B-BAD7-C7CD28A8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9913-22ED-4D4A-9E7C-85F0D10A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04843-AE6D-4755-B676-1AEF4B30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F962A-9B27-4F18-8465-E027529D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7F752-D932-4C0A-8206-7628CFBD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70BA2-5C1B-41D0-906D-EA77C893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B68-18CD-4246-9053-28995D3A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BCB-BBB9-4EFB-AEB5-E8A86730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588-5604-4B15-A595-89EEB5D0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CF9-E0BE-4938-9340-0515DB1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26C-4609-4A9C-ABD6-1469605C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4BE-1C9A-44E8-B091-FF18AC9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643-E5F4-4B37-922D-B8151CD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DCD0-EA24-47FA-8224-0F736FE49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3931-5723-463D-AD96-4DBDE0E369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ssion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ereotyp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1523880" y="205740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ereotyping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o judge or label a group of people based on appearance or rum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630720" y="601992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lf-fulfilling Prophec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ecoming what others expect by believing their judg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2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Mcadwell</cp:lastModifiedBy>
  <dcterms:modified xsi:type="dcterms:W3CDTF">2011-01-31T23:42:59Z</dcterms:modified>
  <cp:revision>18</cp:revision>
  <dc:subject/>
  <dc:title>Project TND  (Project Towards No Drug Abuse)</dc:title>
</cp:coreProperties>
</file>